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657-7393-4FFE-9066-31DDB080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294-FD84-40D3-A7E7-83004A5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B7089-8E02-4D5D-9288-215FE758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A931-67F9-40B1-B7EF-2BCF2CCE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0D520-567B-4671-B37C-2987697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52094-4B55-4531-850F-B95D405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70D8B-5E94-4A47-B0AE-AB60DBA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20599-8AE8-4F62-B37F-2CB36C5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009CD-61E2-4764-9394-42DDDBC7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A97BB-1980-4153-B7CD-A199F5FA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DC3C9-6154-47F2-9ABD-B22B9115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F1EC2-C783-48AB-A24F-BE8B4B82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7EE-8455-4727-AC35-E8EB1579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BEC3B-0840-4C94-9991-263D711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231C0-9694-4B06-8048-2BC13861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577CE-642E-4D2D-8B38-CDF6145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A41D2-DFD0-40E5-8B15-BF5C3F18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8C4C-3B16-429D-A499-C638B25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71DB2-6092-4C58-8C9C-A41FCFB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7F69D-70DF-42D4-B1F1-7AFB46D2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32114-96A1-4DEC-9647-DCE3650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4B7F3-9D46-417F-8ADD-5D29622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513A5-E14D-42AD-98CA-011B7A00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720-A2A8-4071-BED2-2B7B72B1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31E6F-226A-45CB-B290-B370D490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D5520-8968-44E0-8010-479A7693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5C9A7-FC33-4A07-9B83-3FEB4C22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3D9D-ED6F-458B-8A15-759E076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71108-3D90-4859-9FE6-3B41C085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8419D-20BD-4297-A57A-D5242EA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24521-B800-4628-9FBF-C75E4B2F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01A67-7312-4D60-A241-3792908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09080-6E2C-41A0-BC84-4B17EC6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197AF-FB6D-4C58-A3AF-8A83083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9D81-6961-4D7D-B283-66CE616A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01B07-2410-4A99-8641-7B18C5A8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14270-4DBA-4C64-AAC1-EB2200DB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CD430-07B8-4B94-BD00-1E9DACB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E93CA-0A2F-493B-A70F-2FEC7B05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C8A6A-1CD3-4EB0-BBC9-D64D0D5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04026-2B6B-4DC9-A6B2-5ADC3878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CBE4-012C-4199-9A28-14477B43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5794D-855C-4CDA-B67D-05420FC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0905D-E4C5-4AA3-88B1-928E6360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E80F4-CDED-4866-BD25-8F296F3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4F1-20FD-4070-B78F-971EC94A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6F9F5-2C0C-4319-A9B4-3FBC515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932AB-158F-4A45-9E11-2676F4FD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A3D65-7EC2-4716-865C-0B93D4C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B16A3-0993-4E3A-B2BE-2B670C3F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681CF-A0DC-4408-B5F2-3DEB52F4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6EAD-1AA7-44C2-B5B8-065C19A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03EE-5A87-4288-B910-3E77256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53D0-A21A-4BCF-B6D7-4E1544E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5C04-043E-4C3E-B108-F58B73EF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41BE-74EA-4495-B635-2289D78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377-B749-4CFA-8DB7-59F5D1F9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DEBC-04EE-4C4C-9E58-CF4B668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ABC4-23B8-405A-8F3B-8566090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B51-245B-4104-ADB7-70C7F3E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EE22-E2D9-42F7-B31F-47BDE25F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22CA-EAAD-4E6D-883F-FFC03411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C34B-C08E-49BD-8638-43403C1E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41A3-65CF-4999-8975-056A4E0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0DA2-2AE7-4775-B38F-74D229DF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6159-63FB-47F4-955D-E1255471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DF67-A520-4CBC-B5F1-7D2603F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7A6-1FA1-418A-8E3B-E5EC835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9BBF-7178-42F6-BE84-F3A87981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DA6E-972D-4FAA-8BB7-0100F23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0BBC-830E-42FF-969B-F472B07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13B7-0D48-4B03-A58A-15733D7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A63C-DA6D-495D-90FB-8334A43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7BB6-9B7D-488D-9012-25A5531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3EB1-E764-42BA-A663-D116C48C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802C-30E8-456D-B8C5-EA50B11A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6099-29BE-485B-B199-6BCAAFF9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517B8-D5FC-45AC-831F-F5C9B0CF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E09-F219-4B3F-B7EC-434E932B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B3F5-2C9C-4430-99E9-326EA74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5BC1-25B2-4251-8B13-9B165014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C2CA-91EE-47AB-A2CC-FB706ED1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52A9-25E5-481F-8BB2-E318A2C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D57B-815F-4E30-A6FC-3DE4F87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DC5E-B1A4-4B49-9BBA-6B0784A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4150-FC88-474D-A0A2-1A66F47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8D1D-3E92-4815-AB40-93DD7588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19C6-6D37-41DE-9382-5046CFE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C3A2-BAA3-4932-9924-41DCF52E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2F0-B24A-4C43-A4C3-F66992F6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0DD4-B48F-4A4E-86C8-4A993C5B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180D-520E-4466-9AAA-55EB067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43D4-B5F6-4651-ACD2-D169F7D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AE82-BEFB-419A-B354-FA38BAEC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F27A-A007-462F-845A-EA77B2E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B822-DB2A-4BD0-A01A-A859EEF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B15D-147B-4643-BDB4-F293DFC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3887-9B5A-45FD-A0F2-9B99D3C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9475-368D-4EA5-ABF0-DA60CBB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A306-CB47-45C0-8573-39EDB68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1AF-C637-4A9C-9EF2-8117972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EE7A-9B09-4019-94A1-456DD84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983B-DAA5-4991-BDE1-18062C8F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540D-4E43-4BD3-B66C-31401F10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B8C8-E34C-439B-8D4E-F11E93C7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8D23-2627-42FC-B567-8CE35551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53F4F-9E9F-4471-9D00-21697B88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5378-536B-4773-9572-384DBBA1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0EBF8-0F66-42AB-A5CC-B64C7E4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F202-9639-4496-9540-013D3E6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3E218-35AA-47F4-BDF7-D61A49D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892-E561-41F7-85B1-8EEE653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3BA9-1B94-4F57-9AAB-7E7F0B4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2445F-8319-4069-8559-C78C0B7C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CAC81-E95B-4185-916A-5AE0777F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978C-2BE3-4902-AF38-AD66AE37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25C34-7387-4F40-BDB9-C4682F32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03F3-1E00-44E3-BD7B-F9DE0482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0257-DA85-456A-BB6E-A06678C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00604-5A38-47F7-97FA-D509C56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CC80-D2BC-49C3-963E-D1813DC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CFA5A-752F-419F-A011-ACB91D5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6A8-63CF-4861-8889-32607277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EA0B-67B0-4B8A-8867-964C486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F5749-D012-445E-9247-0805B843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4176-B209-42B1-AFE5-4ED50E2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9761-FBA3-476C-816E-DA9F891B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2261D-0F6F-41FA-A11F-D2F62A16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2D55-C268-49D4-B604-2BE8D4D4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2AF3E-93EC-4718-B98D-3E56F23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4B9C-DFEA-4F34-9F1D-22D4CC9B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7ABAF-3D46-4F2F-8AD8-13756912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86BE-1D13-46C6-80F0-0C04D386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E77-BC9A-4238-8EE2-38AE4634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6F0D6-D56D-4F94-BB1E-9287CBEC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3233B-5E29-4419-B212-715E357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CDED-4A30-4F53-946F-143E0B1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8369B-CDF7-4CF0-AA91-A40A752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CA203-5454-4A87-846C-87F8B2BC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D6A22-B3F5-42F7-9493-83C66ADE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09B8-5EAD-4E8B-8756-1B494EEC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4320A-C1E7-42ED-938B-2C30053F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6D833-6204-408C-B188-AA5ED10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37A83-A99D-4802-AE30-6F3A7032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17D-7924-4622-8557-D61BF0886CF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3BF1-74A0-4AD2-84FF-B9242D025EC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8ECE-6463-4780-A5AF-7A55AAEBCD7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1CF9-EA3E-4839-930C-ED25E765E54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3412-5F7F-42F0-BF87-E01430F1DA5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89E4-C11D-4894-A03E-FCC4F9592A7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E23-0B5C-41FD-8862-FCFF9BE0D6D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29FC-1160-4E71-A27C-35FF7B248A1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747-DB40-4311-ADD9-E52F5D3E670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CD71-606D-4145-B214-84A509196FF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254-684F-4364-A79D-B5577B20A1F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88A-22C0-447B-903E-43BFC1273A2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9"/>
          <p:cNvSpPr/>
          <p:nvPr/>
        </p:nvSpPr>
        <p:spPr>
          <a:xfrm>
            <a:off x="800280" y="425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Similar Verb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800280" y="118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 verbos parecido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3206880" cy="458640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2"/>
          <p:cNvSpPr/>
          <p:nvPr/>
        </p:nvSpPr>
        <p:spPr>
          <a:xfrm>
            <a:off x="2503440" y="1927080"/>
            <a:ext cx="1557360" cy="909720"/>
          </a:xfrm>
          <a:prstGeom prst="wedgeEllipseCallout">
            <a:avLst>
              <a:gd name="adj1" fmla="val 17481"/>
              <a:gd name="adj2" fmla="val 73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Te gusta mi coche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3741840" y="3811680"/>
            <a:ext cx="1854000" cy="695160"/>
          </a:xfrm>
          <a:prstGeom prst="wedgeEllipseCallout">
            <a:avLst>
              <a:gd name="adj1" fmla="val 18152"/>
              <a:gd name="adj2" fmla="val -76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í, me gusta much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4" descr="PPH%2BWL"/>
          <p:cNvPicPr/>
          <p:nvPr/>
        </p:nvPicPr>
        <p:blipFill>
          <a:blip r:embed="rId2"/>
          <a:stretch/>
        </p:blipFill>
        <p:spPr>
          <a:xfrm>
            <a:off x="152280" y="6192720"/>
            <a:ext cx="15242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919160" y="91440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e restaurant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45720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sta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used with indirect object pronou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2438280" y="1371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hat restauran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1905120" y="1981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té helado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2438280" y="2438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like iced tea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1905120" y="30020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cho las zanahoria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2438280" y="35211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e likes carrots a lo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7"/>
          <p:cNvSpPr/>
          <p:nvPr/>
        </p:nvSpPr>
        <p:spPr>
          <a:xfrm>
            <a:off x="1905120" y="4038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yogu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2438280" y="4525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e don’t like yogur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1905120" y="5135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ar en cas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438280" y="5668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y like to eat dinner at ho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7"/>
          <p:cNvSpPr/>
          <p:nvPr/>
        </p:nvSpPr>
        <p:spPr>
          <a:xfrm>
            <a:off x="1143000" y="124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urri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3505320" y="1241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ore; to ti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143000" y="1773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ant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3505320" y="1847880"/>
            <a:ext cx="525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delight; to be extremely pleas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1143000" y="2765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t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3505320" y="2832120"/>
            <a:ext cx="4876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lacking or need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1430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cin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3505320" y="3403440"/>
            <a:ext cx="365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fascina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1143000" y="39387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3505320" y="3994200"/>
            <a:ext cx="365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interes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1143000" y="4525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est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3505320" y="4584600"/>
            <a:ext cx="5181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a bother or to anno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1143000" y="5111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ec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3505320" y="5141880"/>
            <a:ext cx="228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se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1143000" y="5697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d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3505320" y="5751360"/>
            <a:ext cx="4647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left; to rem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6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other verbs function lik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7"/>
          <p:cNvSpPr/>
          <p:nvPr/>
        </p:nvSpPr>
        <p:spPr>
          <a:xfrm>
            <a:off x="380880" y="8096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, too, are used with indirect object pronou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1919160" y="1066680"/>
            <a:ext cx="50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bur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er sol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2438280" y="15541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ing alone bores 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2438280" y="5135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rench cuisine fascinates u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1905120" y="2286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ncan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er fuer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2438280" y="2697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ove to eat ou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1905120" y="4648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asci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cocina frances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2438280" y="393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 you all need some napkin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1905120" y="3429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L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al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rvillet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2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other verbs function lik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5"/>
          <p:cNvSpPr/>
          <p:nvPr/>
        </p:nvSpPr>
        <p:spPr>
          <a:xfrm>
            <a:off x="1523880" y="4248000"/>
            <a:ext cx="6705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T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que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uficiente dinero para pagar la cuenta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1981080" y="36496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is wine seems expensive to u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1523880" y="31622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are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ro este vin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1981080" y="5181480"/>
            <a:ext cx="6096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 you have enough money left to pay the bill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1981080" y="14778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e’re interested in penguin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0"/>
          <p:cNvSpPr/>
          <p:nvPr/>
        </p:nvSpPr>
        <p:spPr>
          <a:xfrm>
            <a:off x="1523880" y="990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interes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os pingüino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1981080" y="2563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me customers annoy 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2"/>
          <p:cNvSpPr/>
          <p:nvPr/>
        </p:nvSpPr>
        <p:spPr>
          <a:xfrm>
            <a:off x="1523880" y="20764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oles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gunos client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other verbs function lik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914400" y="45720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like something a lot (mucho) or more (más) than something el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mediately follow the verb gusta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133720" y="1962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514600" y="24512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really like to ea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219320" y="333360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fferent word order would convey a different meani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2209680" y="44006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a come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905120" y="4921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to eat a lot of foo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914400" y="45720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like something a lot (mucho) or more (más) than something el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mediately follow the verb gusta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80880" y="22478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Te gust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naranjas o las toronj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880" y="27367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like oranges or grapefruit bes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828800" y="37148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naranja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905120" y="4235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oranges bes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, the ver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r, encantar, et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us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usiv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3"/>
          <p:cNvGrpSpPr/>
          <p:nvPr/>
        </p:nvGrpSpPr>
        <p:grpSpPr>
          <a:xfrm>
            <a:off x="1657440" y="1955880"/>
            <a:ext cx="4093920" cy="1955880"/>
            <a:chOff x="1657440" y="1955880"/>
            <a:chExt cx="4093920" cy="1955880"/>
          </a:xfrm>
        </p:grpSpPr>
        <p:sp>
          <p:nvSpPr>
            <p:cNvPr id="636" name="Rectangle 4"/>
            <p:cNvSpPr/>
            <p:nvPr/>
          </p:nvSpPr>
          <p:spPr>
            <a:xfrm>
              <a:off x="1657440" y="1955880"/>
              <a:ext cx="1041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me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5"/>
            <p:cNvSpPr/>
            <p:nvPr/>
          </p:nvSpPr>
          <p:spPr>
            <a:xfrm>
              <a:off x="1657440" y="2543040"/>
              <a:ext cx="663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6"/>
            <p:cNvSpPr/>
            <p:nvPr/>
          </p:nvSpPr>
          <p:spPr>
            <a:xfrm>
              <a:off x="1657440" y="3225960"/>
              <a:ext cx="1071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en-US" sz="3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7"/>
            <p:cNvSpPr/>
            <p:nvPr/>
          </p:nvSpPr>
          <p:spPr>
            <a:xfrm>
              <a:off x="4680000" y="1955880"/>
              <a:ext cx="1041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nos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4680000" y="2543040"/>
              <a:ext cx="977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os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"/>
            <p:cNvSpPr/>
            <p:nvPr/>
          </p:nvSpPr>
          <p:spPr>
            <a:xfrm>
              <a:off x="4680000" y="3225960"/>
              <a:ext cx="1071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les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32"/>
          <p:cNvGrpSpPr/>
          <p:nvPr/>
        </p:nvGrpSpPr>
        <p:grpSpPr>
          <a:xfrm>
            <a:off x="2438280" y="1943280"/>
            <a:ext cx="5867640" cy="2922840"/>
            <a:chOff x="2438280" y="1943280"/>
            <a:chExt cx="5867640" cy="2922840"/>
          </a:xfrm>
        </p:grpSpPr>
        <p:sp>
          <p:nvSpPr>
            <p:cNvPr id="643" name="Text Box 10"/>
            <p:cNvSpPr/>
            <p:nvPr/>
          </p:nvSpPr>
          <p:spPr>
            <a:xfrm>
              <a:off x="2438280" y="1952640"/>
              <a:ext cx="152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 mí</a:t>
              </a: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11"/>
            <p:cNvSpPr/>
            <p:nvPr/>
          </p:nvSpPr>
          <p:spPr>
            <a:xfrm>
              <a:off x="2438280" y="2530440"/>
              <a:ext cx="152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ti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2"/>
            <p:cNvSpPr/>
            <p:nvPr/>
          </p:nvSpPr>
          <p:spPr>
            <a:xfrm>
              <a:off x="2438280" y="3247920"/>
              <a:ext cx="17528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usted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13"/>
            <p:cNvSpPr/>
            <p:nvPr/>
          </p:nvSpPr>
          <p:spPr>
            <a:xfrm>
              <a:off x="2438280" y="3732120"/>
              <a:ext cx="1828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</a:t>
              </a: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é</a:t>
              </a: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l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14"/>
            <p:cNvSpPr/>
            <p:nvPr/>
          </p:nvSpPr>
          <p:spPr>
            <a:xfrm>
              <a:off x="2438280" y="4254480"/>
              <a:ext cx="1981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ella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15"/>
            <p:cNvSpPr/>
            <p:nvPr/>
          </p:nvSpPr>
          <p:spPr>
            <a:xfrm>
              <a:off x="5562720" y="1943280"/>
              <a:ext cx="274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nosotro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16"/>
            <p:cNvSpPr/>
            <p:nvPr/>
          </p:nvSpPr>
          <p:spPr>
            <a:xfrm>
              <a:off x="5562720" y="2514600"/>
              <a:ext cx="274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vosotro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17"/>
            <p:cNvSpPr/>
            <p:nvPr/>
          </p:nvSpPr>
          <p:spPr>
            <a:xfrm>
              <a:off x="5562720" y="3219480"/>
              <a:ext cx="2361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ustede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18"/>
            <p:cNvSpPr/>
            <p:nvPr/>
          </p:nvSpPr>
          <p:spPr>
            <a:xfrm>
              <a:off x="5562720" y="3722760"/>
              <a:ext cx="1828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ell</a:t>
              </a: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5562720" y="4245120"/>
              <a:ext cx="274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ella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20"/>
          <p:cNvGrpSpPr/>
          <p:nvPr/>
        </p:nvGrpSpPr>
        <p:grpSpPr>
          <a:xfrm>
            <a:off x="1542960" y="1447920"/>
            <a:ext cx="3975120" cy="2411280"/>
            <a:chOff x="1542960" y="1447920"/>
            <a:chExt cx="3975120" cy="2411280"/>
          </a:xfrm>
        </p:grpSpPr>
        <p:sp>
          <p:nvSpPr>
            <p:cNvPr id="654" name="Rectangle 21"/>
            <p:cNvSpPr/>
            <p:nvPr/>
          </p:nvSpPr>
          <p:spPr>
            <a:xfrm>
              <a:off x="1542960" y="2041560"/>
              <a:ext cx="86364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22"/>
            <p:cNvSpPr/>
            <p:nvPr/>
          </p:nvSpPr>
          <p:spPr>
            <a:xfrm>
              <a:off x="4654440" y="2041560"/>
              <a:ext cx="86364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3"/>
            <p:cNvSpPr/>
            <p:nvPr/>
          </p:nvSpPr>
          <p:spPr>
            <a:xfrm>
              <a:off x="1952640" y="1447920"/>
              <a:ext cx="3200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These are mandatory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4"/>
            <p:cNvSpPr/>
            <p:nvPr/>
          </p:nvSpPr>
          <p:spPr>
            <a:xfrm flipH="1">
              <a:off x="1856880" y="1727280"/>
              <a:ext cx="14292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5"/>
            <p:cNvSpPr/>
            <p:nvPr/>
          </p:nvSpPr>
          <p:spPr>
            <a:xfrm>
              <a:off x="4971960" y="1736640"/>
              <a:ext cx="19044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Text Box 33"/>
          <p:cNvSpPr/>
          <p:nvPr/>
        </p:nvSpPr>
        <p:spPr>
          <a:xfrm>
            <a:off x="2895480" y="563868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mpha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26"/>
          <p:cNvGrpSpPr/>
          <p:nvPr/>
        </p:nvGrpSpPr>
        <p:grpSpPr>
          <a:xfrm>
            <a:off x="2463840" y="1995480"/>
            <a:ext cx="5397480" cy="3735000"/>
            <a:chOff x="2463840" y="1995480"/>
            <a:chExt cx="5397480" cy="3735000"/>
          </a:xfrm>
        </p:grpSpPr>
        <p:sp>
          <p:nvSpPr>
            <p:cNvPr id="661" name="Rectangle 27"/>
            <p:cNvSpPr/>
            <p:nvPr/>
          </p:nvSpPr>
          <p:spPr>
            <a:xfrm>
              <a:off x="2463840" y="1995480"/>
              <a:ext cx="1816200" cy="29192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28"/>
            <p:cNvSpPr/>
            <p:nvPr/>
          </p:nvSpPr>
          <p:spPr>
            <a:xfrm>
              <a:off x="5575320" y="2004840"/>
              <a:ext cx="2286000" cy="2919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3562200" y="4978440"/>
              <a:ext cx="2819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The prepositional forms are optional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30"/>
            <p:cNvSpPr/>
            <p:nvPr/>
          </p:nvSpPr>
          <p:spPr>
            <a:xfrm flipH="1" flipV="1">
              <a:off x="3314880" y="4978440"/>
              <a:ext cx="27936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 flipV="1">
              <a:off x="6267600" y="4978440"/>
              <a:ext cx="27936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685800" y="4269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l the prepositional forms can be used to 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mphasize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the object pronoun for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533520" y="24843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le gustan los frijoles, pero      sí me gust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1523880" y="167796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oesn’t like beans but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33520" y="2484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Ju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7605720" y="24843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595440" y="1681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5638680" y="16779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5886360" y="16779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o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457200" y="3962520"/>
            <a:ext cx="83818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otice that because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Juan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were stressed in the above sentence in English, we added the prepositional forms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a Juan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a mí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in Spanish to reflect that stres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671400" y="2986200"/>
            <a:ext cx="1295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7"/>
          <p:cNvSpPr/>
          <p:nvPr/>
        </p:nvSpPr>
        <p:spPr>
          <a:xfrm>
            <a:off x="7696080" y="298620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685800" y="2238480"/>
            <a:ext cx="838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5700600" y="222408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3"/>
          <p:cNvSpPr/>
          <p:nvPr/>
        </p:nvSpPr>
        <p:spPr>
          <a:xfrm>
            <a:off x="1066680" y="1752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457200" y="2438280"/>
            <a:ext cx="8381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can represent a number of different people, we may need to add a prepositional form to avoid confusion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181080" y="417600"/>
            <a:ext cx="8802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Since the third-person pronouns </a:t>
            </a:r>
            <a:r>
              <a:rPr b="1" i="1" lang="es-ES_tradnl" sz="34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s-ES_tradnl" sz="34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 can be ambiguous, they sometimes require prepositional forms for </a:t>
            </a:r>
            <a:r>
              <a:rPr b="0" lang="es-ES_tradnl" sz="3400" spc="-1" strike="noStrike" u="sng">
                <a:solidFill>
                  <a:srgbClr val="000000"/>
                </a:solidFill>
                <a:uFillTx/>
                <a:latin typeface="Times New Roman"/>
              </a:rPr>
              <a:t>clarification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914400" y="3276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ello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914400" y="39434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ella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Uds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914400" y="461016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Luis y a Marta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6"/>
          <p:cNvSpPr/>
          <p:nvPr/>
        </p:nvSpPr>
        <p:spPr>
          <a:xfrm>
            <a:off x="1004760" y="382284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1038240" y="5122800"/>
            <a:ext cx="35053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990720" y="4494240"/>
            <a:ext cx="1447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9"/>
          <p:cNvSpPr/>
          <p:nvPr/>
        </p:nvSpPr>
        <p:spPr>
          <a:xfrm>
            <a:off x="1019160" y="6265800"/>
            <a:ext cx="1295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9998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914400" y="364680"/>
            <a:ext cx="73152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r = to be plea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962000" y="3336840"/>
            <a:ext cx="24606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4552920" y="3336840"/>
            <a:ext cx="32194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mo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ái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62120" y="2405160"/>
            <a:ext cx="7619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completely regular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erb in its conjug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457200" y="10666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express preferences, likes, and dislikes; however, gustar means “to be pleasing,” and is constructed very differently from the English “to like.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 like i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 rot="20893200">
            <a:off x="457200" y="23619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, we say . .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838080" y="3368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nish, “it” becomes the subject of the sentence and we say instead . .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609480" y="4267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pleasing to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914400" y="365040"/>
            <a:ext cx="7315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r = to be pleas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914400" y="1219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nish, the thing or things that we like are expressed as being “pleasing to us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1"/>
          <p:cNvSpPr/>
          <p:nvPr/>
        </p:nvSpPr>
        <p:spPr>
          <a:xfrm rot="20893200">
            <a:off x="6095880" y="21686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where “it” is the direct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2"/>
          <p:cNvSpPr/>
          <p:nvPr/>
        </p:nvSpPr>
        <p:spPr>
          <a:xfrm flipH="1">
            <a:off x="2362320" y="3200400"/>
            <a:ext cx="3047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04920" y="5486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” is then expressed as the indirect object phrase “to m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4"/>
          <p:cNvSpPr/>
          <p:nvPr/>
        </p:nvSpPr>
        <p:spPr>
          <a:xfrm>
            <a:off x="5700600" y="5062680"/>
            <a:ext cx="1600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63244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548160" y="3200400"/>
            <a:ext cx="27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294920" y="93024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Spanis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744480" y="230184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3124080" y="230184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pleas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6248520" y="2301840"/>
            <a:ext cx="2192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m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H="1">
            <a:off x="2362320" y="1692360"/>
            <a:ext cx="2743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"/>
          <p:cNvSpPr/>
          <p:nvPr/>
        </p:nvSpPr>
        <p:spPr>
          <a:xfrm>
            <a:off x="2743200" y="1692360"/>
            <a:ext cx="441972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1447920" y="3521160"/>
            <a:ext cx="327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españo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6"/>
          <p:cNvSpPr/>
          <p:nvPr/>
        </p:nvSpPr>
        <p:spPr>
          <a:xfrm>
            <a:off x="4516560" y="3521160"/>
            <a:ext cx="317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 gust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7"/>
          <p:cNvSpPr/>
          <p:nvPr/>
        </p:nvSpPr>
        <p:spPr>
          <a:xfrm>
            <a:off x="6213600" y="3521160"/>
            <a:ext cx="1330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838080" y="4299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of course, in Spanish, pronouns must be plac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jugated verb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5"/>
          <p:cNvSpPr/>
          <p:nvPr/>
        </p:nvSpPr>
        <p:spPr>
          <a:xfrm flipH="1">
            <a:off x="5257800" y="3063960"/>
            <a:ext cx="17524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6"/>
          <p:cNvSpPr/>
          <p:nvPr/>
        </p:nvSpPr>
        <p:spPr>
          <a:xfrm>
            <a:off x="4800600" y="3063960"/>
            <a:ext cx="1600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228600" y="3139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nish, this would literally be . .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914400" y="5105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it so happens that, by convention, the subject (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 españ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generally placed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entence with this type of constru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380880" y="32076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t’s start by talking about something we all lik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04920" y="17524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llowing the format on the previous slide, we would say . . 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9"/>
          <p:cNvSpPr/>
          <p:nvPr/>
        </p:nvSpPr>
        <p:spPr>
          <a:xfrm>
            <a:off x="4513320" y="3382920"/>
            <a:ext cx="33526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 gusta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1447920" y="3519360"/>
            <a:ext cx="32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españo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1066680" y="3519360"/>
            <a:ext cx="6248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español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5"/>
          <p:cNvSpPr/>
          <p:nvPr/>
        </p:nvSpPr>
        <p:spPr>
          <a:xfrm>
            <a:off x="2379600" y="3003480"/>
            <a:ext cx="358164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94920" y="92844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Spanis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44480" y="230040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124080" y="2300400"/>
            <a:ext cx="3505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pleas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6248520" y="2300400"/>
            <a:ext cx="2192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m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6"/>
          <p:cNvSpPr/>
          <p:nvPr/>
        </p:nvSpPr>
        <p:spPr>
          <a:xfrm flipH="1">
            <a:off x="2362320" y="1690560"/>
            <a:ext cx="2743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2743200" y="1690560"/>
            <a:ext cx="4419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465200" y="3402000"/>
            <a:ext cx="27432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 gust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471600" y="4800600"/>
            <a:ext cx="8048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urns out, then, that the sentence in Spanish is exactly the reverse of that in English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6629400" y="5238720"/>
            <a:ext cx="2362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 its sens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2514600" y="5673600"/>
            <a:ext cx="4724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d also in its word ord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23"/>
          <p:cNvSpPr/>
          <p:nvPr/>
        </p:nvSpPr>
        <p:spPr>
          <a:xfrm flipV="1" rot="1828800">
            <a:off x="3846240" y="3736800"/>
            <a:ext cx="1827000" cy="10666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rc 24"/>
          <p:cNvSpPr/>
          <p:nvPr/>
        </p:nvSpPr>
        <p:spPr>
          <a:xfrm flipV="1" rot="3972000">
            <a:off x="1598040" y="3193920"/>
            <a:ext cx="1828800" cy="1257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rc 25"/>
          <p:cNvSpPr/>
          <p:nvPr/>
        </p:nvSpPr>
        <p:spPr>
          <a:xfrm flipH="1" flipV="1" rot="19771200">
            <a:off x="5105880" y="2484000"/>
            <a:ext cx="1827720" cy="1067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rc 26"/>
          <p:cNvSpPr/>
          <p:nvPr/>
        </p:nvSpPr>
        <p:spPr>
          <a:xfrm flipH="1" flipV="1" rot="17431800">
            <a:off x="2385720" y="1502280"/>
            <a:ext cx="2081160" cy="2040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3"/>
          <p:cNvSpPr/>
          <p:nvPr/>
        </p:nvSpPr>
        <p:spPr>
          <a:xfrm>
            <a:off x="638280" y="457200"/>
            <a:ext cx="8048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 express that others like Spanish, only the object pronoun needs to change, since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emains the subject in all the sentenc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2819520" y="358128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usta el español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1600200" y="1841400"/>
            <a:ext cx="1357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2971800" y="1981080"/>
            <a:ext cx="14065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914400" y="304920"/>
            <a:ext cx="76201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most of the things or people that please us are expressed in third person, the two fo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re used most commonly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4460760" y="1981080"/>
            <a:ext cx="21686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m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á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2819520" y="2895480"/>
            <a:ext cx="3352680" cy="451080"/>
          </a:xfrm>
          <a:prstGeom prst="rect">
            <a:avLst/>
          </a:prstGeom>
          <a:solidFill>
            <a:srgbClr val="00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447920" y="34434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s gu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el fla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que hace la abuela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1447920" y="4815000"/>
            <a:ext cx="49528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 le gu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los huevo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rc 11"/>
          <p:cNvSpPr/>
          <p:nvPr/>
        </p:nvSpPr>
        <p:spPr>
          <a:xfrm flipV="1" rot="2894400">
            <a:off x="3452040" y="3474360"/>
            <a:ext cx="646200" cy="8888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rc 12"/>
          <p:cNvSpPr/>
          <p:nvPr/>
        </p:nvSpPr>
        <p:spPr>
          <a:xfrm flipV="1" rot="3225000">
            <a:off x="3861360" y="4716000"/>
            <a:ext cx="838440" cy="11923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133720" y="4129200"/>
            <a:ext cx="60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like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l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grandma make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2133720" y="562284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he doesn’t like egg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1066680" y="47952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it is possible to use other forms.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example is used frequent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819520" y="170964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 gus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tú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rc 8"/>
          <p:cNvSpPr/>
          <p:nvPr/>
        </p:nvSpPr>
        <p:spPr>
          <a:xfrm flipV="1" rot="1952400">
            <a:off x="5145120" y="1600200"/>
            <a:ext cx="555480" cy="9907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2057400" y="2500200"/>
            <a:ext cx="5105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please me. (I like you.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3262320"/>
            <a:ext cx="800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 with one or more infinitives, only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hird person singula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165480" y="4206960"/>
            <a:ext cx="30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1066680" y="4892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er, jugar fútbol, y viaja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use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usivel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bject pronou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2666880" y="2251080"/>
            <a:ext cx="1676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m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2666880" y="3230640"/>
            <a:ext cx="99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t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2666880" y="4211640"/>
            <a:ext cx="114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l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7"/>
          <p:cNvSpPr/>
          <p:nvPr/>
        </p:nvSpPr>
        <p:spPr>
          <a:xfrm>
            <a:off x="4952880" y="2251080"/>
            <a:ext cx="1676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no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8"/>
          <p:cNvSpPr/>
          <p:nvPr/>
        </p:nvSpPr>
        <p:spPr>
          <a:xfrm>
            <a:off x="4952880" y="3230640"/>
            <a:ext cx="144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o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9"/>
          <p:cNvSpPr/>
          <p:nvPr/>
        </p:nvSpPr>
        <p:spPr>
          <a:xfrm>
            <a:off x="4952880" y="4211640"/>
            <a:ext cx="144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le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04:08:16Z</dcterms:created>
  <dc:creator>WR Cisco</dc:creator>
  <dc:description/>
  <dc:language>en-US</dc:language>
  <cp:lastModifiedBy>localadmin</cp:lastModifiedBy>
  <dcterms:modified xsi:type="dcterms:W3CDTF">2010-09-16T05:05:27Z</dcterms:modified>
  <cp:revision>255</cp:revision>
  <dc:subject/>
  <dc:title>Gustar and similar verbs</dc:title>
</cp:coreProperties>
</file>